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FE6D-03E9-4650-B6AB-D81D7357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9E35-4EFC-46F2-98AD-760A44C5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0482-BF4E-4AAE-A3CD-5F01A6CEE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EBDC-3AE1-4E17-A923-8256C618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86DA-3214-4F4C-89F2-32847E98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7A73-F3E5-4DDC-9027-F08B2C48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2CDA-86B8-4D7B-9C85-9CEABF99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973F-DFCA-4780-BC18-BDDDD54C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E47A-6988-425E-8750-87716DCB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AFCD-B6A9-4AE7-9D3E-F7F36476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5EE1-8C89-4099-8F59-ED156D60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3E3E-A9E2-4624-998A-7156B005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B66E-3163-4A9B-8914-F768309D5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ists and 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t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eukaryotic one or many-celled organisms that live in moist environments.  Some are plant-like and others are animal-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ists reproduce asex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-like protists are calle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GA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ontain chlorophyll and make their own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-like protists are calle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TOZO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zoans are important food sources for many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me molds and water molds are examples of fungus-like proti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ists are classified by how they m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754380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gi are not sure how fungi are related to other organisms so they have their own kingd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re saprophytes (feed on dead stuff) and some are paras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fungi are grown as food sources, some produce antibiotics (penicillin), others decompose and recycle materials; while others cause plant and animal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76312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7:26:53Z</dcterms:created>
  <dc:creator>Teacher</dc:creator>
  <dc:description/>
  <dc:language>en-US</dc:language>
  <cp:lastModifiedBy>Teacher</cp:lastModifiedBy>
  <dcterms:modified xsi:type="dcterms:W3CDTF">2008-09-04T17:29:12Z</dcterms:modified>
  <cp:revision>2</cp:revision>
  <dc:subject/>
  <dc:title>Protists and Fungi</dc:title>
</cp:coreProperties>
</file>